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2BD3-47ED-46DD-81A5-4AC6C4616BE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87D6-FB6A-4413-9C96-C768CECC466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292B0-CA38-48CF-BF52-32B02AF6B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2DE2-1BB2-4C43-93B6-9C90FBE4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1956B-4996-4AF5-A8BD-7B253CD6D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D6A20-523C-4E77-AADA-5246CEB70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B491-5779-4F4D-8B17-2F58156E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5388-5E5A-48C5-97B7-C07A87CF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885A6-F255-4BC5-9421-0D52A9877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DB3A-89D9-41AC-ABD1-763A2F0E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5FBE6-0E5E-4AFC-BE90-3B4965A4E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BB761-51C5-41E9-8ED6-D4F1EBD6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3E54-AB7D-4892-9A4A-74094D62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90BE9-D6B3-4417-9E5C-B79AFB707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0A62-91C6-4673-8EFE-278D2755DA66}"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ing copp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n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ing solar collectors to heat your ho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057400"/>
            <a:ext cx="79246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ime period where overhunting of large mammals occur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unter-gather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riod where most of today’s environmental problems beg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dustrial Revol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ntry whose residents leave the largest ecological footpr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cribes the conflict between individuals and socie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gedy of the Comm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haracterized by the indefinite existence of the human population in a healthy &amp; prosperous condition</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stainabl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system components such as soil &amp; tempera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biotic facto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system components such as insects &amp; leav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iotic facto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mbers of the same species living in the same place at the same tim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opul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Made up of all the populations of fish, insects &amp; other living things in a pond</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m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place where an organism lives &amp; that has the resources it nee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bita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amples include newspapers &amp; human sew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iodegradable polluta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mount of land &amp; ocean area needed to support 1 per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logical footpr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troduction of harmful levels of chemicals or wastes into the environment</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nvironment</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mp; Societ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 1 Misc.</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 4 Misc.</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systems</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Using</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Resource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oll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cher on Boy Meets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r. Feen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and variety of species in an ar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iodivers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vacant lot can be considered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birds in a forest do not belong to the same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pec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fferent dog breeds exist because of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lling a car with gasolin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tificial sele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2438280"/>
            <a:ext cx="78487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naturally selected individuals must do for evolution to occur</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rodu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s promoted the evolution of insects that are resistant to insecticid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ying to control pests with chemical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types of values that may be considered when building a d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ic, environmental, recreational, ethical, et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n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urning coal in a power pl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n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uilding wooden furni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Jason</cp:lastModifiedBy>
  <dcterms:modified xsi:type="dcterms:W3CDTF">2009-10-21T00:01:20Z</dcterms:modified>
  <cp:revision>32</cp:revision>
  <dc:subject/>
  <dc:title>No Slide Title</dc:title>
</cp:coreProperties>
</file>